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B8F-0359-40E1-9C0F-81F82169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D67-7BF9-4A0C-941E-4D7341F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03B-6D49-448A-83D8-91655659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F99-F2B6-4C94-B5E5-E445B54F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9DD-CC15-481C-9FAD-702F7CD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C1E-3287-4EF9-AC67-BA898364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560-2A92-4349-B01C-825E3BC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948-75A7-4232-9FDF-F533361F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0B9-6286-46E9-A9D1-9421E75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F27-698A-4F09-B045-77DCD0C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293-1FB5-491B-BEEE-17CB5A9F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A3A-53BE-4930-AEBD-8E6354E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3D9-5410-4888-83E6-68151CCEE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icture7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762120" y="2438280"/>
            <a:ext cx="3200400" cy="22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ê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- yê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ưu – ươ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952880" y="2438280"/>
            <a:ext cx="3048120" cy="22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o bè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á sấ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819520" y="1600200"/>
            <a:ext cx="2895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ỂM TRA BÀI C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533520"/>
            <a:ext cx="8076960" cy="107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85800" y="4419720"/>
            <a:ext cx="7391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áo sậu ở sau dãy núi. Sáo ưa nơi khô ráo, có nhiều châu chấu, cào cào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Scan0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762120" y="182880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Kính chào các thầy cô giáo đến thăm d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Lớp 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79640" y="419112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áo viên thực hiệ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rần Thị Thanh Xuân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ường Tiểu học Nguyễn văn c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icture7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380880" y="1981080"/>
            <a:ext cx="350532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ao      âu      eo    ươu    êu     yêu   iu       ưu     iê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495680" y="2057400"/>
            <a:ext cx="350532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ao bèo  cá sấ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kì diệ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3520" y="533520"/>
            <a:ext cx="8076960" cy="107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57200" y="4419720"/>
            <a:ext cx="7772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áo sậu ở sau dãy núi. Sáo ưa nơi khô ráo, có nhiều châu chấu, cào cào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0968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905120" y="3124080"/>
            <a:ext cx="45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396252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905120" y="3124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0" descr="mẹ con"/>
          <p:cNvPicPr/>
          <p:nvPr/>
        </p:nvPicPr>
        <p:blipFill>
          <a:blip r:embed="rId2"/>
          <a:stretch/>
        </p:blipFill>
        <p:spPr>
          <a:xfrm>
            <a:off x="3886200" y="1676520"/>
            <a:ext cx="2286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Picture7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819520" y="24382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90920" y="3276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295280" y="41148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9548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1523880"/>
            <a:ext cx="632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324480" y="2438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095880" y="32767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40080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6553080" y="35053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9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6" descr="nhà sàn"/>
          <p:cNvPicPr/>
          <p:nvPr/>
        </p:nvPicPr>
        <p:blipFill>
          <a:blip r:embed="rId2"/>
          <a:stretch/>
        </p:blipFill>
        <p:spPr>
          <a:xfrm>
            <a:off x="1523880" y="1828800"/>
            <a:ext cx="5867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Picture7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19520" y="24382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90920" y="3276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95280" y="41148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9548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57200" y="1523880"/>
            <a:ext cx="632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324480" y="2438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5880" y="32767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40080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>
            <a:off x="6553080" y="35053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48320" y="41148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à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181480" y="15238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819520" y="2133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66688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676520" y="3048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9548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7200" y="1523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943600" y="2133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791320" y="26668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1992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6172200" y="28195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24280" y="28954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24280" y="1295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09680" y="40384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u 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09680" y="4648320"/>
          <a:ext cx="4151520" cy="1295280"/>
        </p:xfrm>
        <a:graphic>
          <a:graphicData uri="http://schemas.openxmlformats.org/drawingml/2006/table">
            <a:tbl>
              <a:tblPr/>
              <a:tblGrid>
                <a:gridCol w="41515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òn đ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5"/>
          <p:cNvSpPr/>
          <p:nvPr/>
        </p:nvSpPr>
        <p:spPr>
          <a:xfrm>
            <a:off x="5029200" y="4038480"/>
            <a:ext cx="36892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ợ 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029200" y="4648320"/>
            <a:ext cx="3352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àn ghế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895480" y="380880"/>
            <a:ext cx="3657600" cy="838440"/>
          </a:xfrm>
          <a:prstGeom prst="rect">
            <a:avLst/>
          </a:prstGeom>
          <a:solidFill>
            <a:srgbClr val="fb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ợ h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thợ hàn"/>
          <p:cNvPicPr/>
          <p:nvPr/>
        </p:nvPicPr>
        <p:blipFill>
          <a:blip r:embed="rId1"/>
          <a:stretch/>
        </p:blipFill>
        <p:spPr>
          <a:xfrm>
            <a:off x="2031840" y="1447920"/>
            <a:ext cx="5080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4897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17" name="Text Box 4"/>
          <p:cNvSpPr/>
          <p:nvPr/>
        </p:nvSpPr>
        <p:spPr>
          <a:xfrm>
            <a:off x="533520" y="533520"/>
            <a:ext cx="807696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ứ  tư  ngày 02 tháng 11 năm 2011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Học vầ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819520" y="2133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66688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76520" y="3048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ẹ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9548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" y="1523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ài 4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NI-Va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943600" y="2133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791320" y="26668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01992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172200" y="2819520"/>
            <a:ext cx="763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724280" y="28954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à s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724280" y="1295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09680" y="40384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u 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09680" y="4648320"/>
          <a:ext cx="4151520" cy="1295280"/>
        </p:xfrm>
        <a:graphic>
          <a:graphicData uri="http://schemas.openxmlformats.org/drawingml/2006/table">
            <a:tbl>
              <a:tblPr/>
              <a:tblGrid>
                <a:gridCol w="41515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òn đ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5"/>
          <p:cNvSpPr/>
          <p:nvPr/>
        </p:nvSpPr>
        <p:spPr>
          <a:xfrm>
            <a:off x="5029200" y="4038480"/>
            <a:ext cx="36892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ợ 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5029200" y="4648320"/>
            <a:ext cx="3352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àn ghế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2"/>
          <p:cNvSpPr/>
          <p:nvPr/>
        </p:nvSpPr>
        <p:spPr>
          <a:xfrm>
            <a:off x="3124080" y="464832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25"/>
          <p:cNvSpPr/>
          <p:nvPr/>
        </p:nvSpPr>
        <p:spPr>
          <a:xfrm>
            <a:off x="2362320" y="525780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6"/>
          <p:cNvSpPr/>
          <p:nvPr/>
        </p:nvSpPr>
        <p:spPr>
          <a:xfrm>
            <a:off x="5943600" y="464832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7"/>
          <p:cNvSpPr/>
          <p:nvPr/>
        </p:nvSpPr>
        <p:spPr>
          <a:xfrm>
            <a:off x="5181480" y="5257800"/>
            <a:ext cx="685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3:00:31Z</dcterms:created>
  <dc:creator>QuangHuy</dc:creator>
  <dc:description/>
  <dc:language>en-US</dc:language>
  <cp:lastModifiedBy>Admin</cp:lastModifiedBy>
  <dcterms:modified xsi:type="dcterms:W3CDTF">2011-11-07T02:42:23Z</dcterms:modified>
  <cp:revision>51</cp:revision>
  <dc:subject/>
  <dc:title>Slide 1</dc:title>
</cp:coreProperties>
</file>